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729-3C2D-44ED-A3E7-E380BB43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DCD-01E0-4EAA-B844-3D1A3326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AEA-4E5A-4FCF-BC44-FAFCB614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EDF-A969-4951-8AAB-022B45A7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F645-0DB7-4917-9B5F-A723EBEF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610F-F447-4C0D-BE4A-3F594F70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A6F8-CAB8-4520-B88B-2DC0B030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87D1-6E64-494D-B653-60CBC17E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8299-3053-42C4-A66A-55D301AB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082E-123C-414F-A745-B729D134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AE12-517F-4306-A3F8-99A5952D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C27-464B-4725-9CC8-92767A47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197C-411A-4FF7-B2D8-89348628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FBA8-053B-430E-BA9E-47A7BC52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A0FD-2E6C-47C2-9B03-4180AFC3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9225-9C88-4006-AEE3-9D2A8513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F8B3-AC1A-49A1-9906-4DAFBACB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308-AD37-45E5-934A-02428CDD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563-4FCD-4FB1-BC34-7169814B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2BF-9F0A-48DF-B4F1-2DBB7267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5BA-CAE4-49F5-8183-1649682F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5EF-13A8-45D8-8FEE-BD3C674E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3AC-447F-475E-9460-589260D9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0B9-5F66-4637-95D3-12B9F4AF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861E-999B-4910-B696-F0A5A4051A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0B07-B60C-4C0F-B65E-778D5FA592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f balls used to bee little feather pillows maid of l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700s and 1800s in Peru bullfighters were women which fought the bulls while riding horse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Journal #5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taneous Writing: D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sustained stretching helps lenghten tight cramped muscles increases flexibility and prevents muscle strains tiny tears in muscle fi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rgest gold nugget ever found weighed about 200 pounds was discovered in 1969 near Ballarat Australia, and was nicknames Welcome Strang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Journal #6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 the ideas of “wisdom” and “knowledg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riday Warm-up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next five minutes, brainstorm as many words as you can that contain the letter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, h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longest word you came up with?  How many words did you think of that conta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ut don’t begin with any of those three lett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34:43Z</dcterms:created>
  <dc:creator>tpagel</dc:creator>
  <dc:description/>
  <dc:language>en-US</dc:language>
  <cp:lastModifiedBy>tpagel</cp:lastModifiedBy>
  <dcterms:modified xsi:type="dcterms:W3CDTF">2010-06-03T16:35:03Z</dcterms:modified>
  <cp:revision>1</cp:revision>
  <dc:subject/>
  <dc:title>Warm-Up Sentences</dc:title>
</cp:coreProperties>
</file>